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0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43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33.jpeg" ContentType="image/jpeg"/>
  <Override PartName="/ppt/media/image37.png" ContentType="image/png"/>
  <Override PartName="/ppt/media/image45.jpeg" ContentType="image/jpeg"/>
  <Override PartName="/ppt/media/image39.png" ContentType="image/png"/>
  <Override PartName="/ppt/media/image9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936-C843-48C8-A976-78F76354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750-B803-4149-A1E5-927C82F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9EF-2A66-403B-A00F-C1FAC602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FB2-B0B3-4FE9-AB21-7504AECC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74BA-AEE4-4306-9420-3ED30270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1F54-08FD-47A6-B5CC-3D9DE8FD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DF4E-F2FB-46D8-8EFA-EEDD06B2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409B-7808-4464-8FA7-86D719D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FC32-0501-4997-BCA1-B2398807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4DC3-FEEF-4963-8D4A-F12D4B13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3F6E-3A68-436D-B699-68465C5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C06-2301-4BA9-9821-2BD6A4C4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7ABC-284B-4A89-B8C7-AC62F7DC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0ED6-D397-417C-87E6-D5F4D6D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0B5B-8423-4D31-B8CA-BFE32A5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46E1-C679-4C3A-8774-71693B9E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A7D4-E663-4B78-9E88-4FA11CC5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9599-84D5-4755-A015-1B4D641B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505-EAD1-40E6-92B8-CE58BDC6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EF6-87AE-40AF-9D71-76BB80A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B5C-B80C-4D58-8355-1E568DFD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72C-FC7E-45ED-BBB0-EAE20E0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4A0-C70B-404F-84A6-447E3F7A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46B-A70A-4C4A-A7A4-CB3BA94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CA72-5AAE-42DD-8375-46C73EA65B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8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2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3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4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5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6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7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8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9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0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05F3-0A34-401F-8F05-C95AB53F280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hyperlink" Target="http://www.realto.ru/journal/?PHPSESSID=vjg5u9nm6vg0enf163gt65r3j2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62120" y="1523880"/>
            <a:ext cx="7943760" cy="21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оссия в конц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XIX- начале XXвеков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80880" y="4267080"/>
            <a:ext cx="8763120" cy="2349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 в других странах, вставших на индустриальные рельсы, наиболее могущественным с экономической точки зрения классом российского общества являлась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буржуаз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исленност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 буржуазии (т. е. имеющей доходы свыше 10 тыс. р. в год) составляла примерно 25 тыс. человек в 1910 г. — около 30 тыс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5" descr="http://s56.radikal.ru/i153/0903/4b/6e76abe19fc1.jpg"/>
          <p:cNvPicPr/>
          <p:nvPr/>
        </p:nvPicPr>
        <p:blipFill>
          <a:blip r:embed="rId3"/>
          <a:stretch/>
        </p:blipFill>
        <p:spPr>
          <a:xfrm>
            <a:off x="1828800" y="914400"/>
            <a:ext cx="5334120" cy="3246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457200" y="42670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буржуазия не имела прочной опоры в обществе, так как практически отсутствовали средние слои населения, т. е. мелкие собственники. Она была тесно связана с правительством, не имела политических прав. На фабриках и заводах существовала беспощадная эксплуатация наемных рабочи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5" descr="http://img11.nnm.ru/8/7/c/c/0/1504b0e41e2b0991128e00a5b6f_prev.jpg"/>
          <p:cNvPicPr/>
          <p:nvPr/>
        </p:nvPicPr>
        <p:blipFill>
          <a:blip r:embed="rId3"/>
          <a:stretch/>
        </p:blipFill>
        <p:spPr>
          <a:xfrm>
            <a:off x="1447920" y="838080"/>
            <a:ext cx="6172200" cy="3211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3581280"/>
            <a:ext cx="8458200" cy="3020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представители российской буржуазии были образованными людьми, занимались благотворительностью,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еценатск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ветительской деятельностью. Текстильный фабрикант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.М. Третьяк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ал в дар Москве уникальную коллекцию русской национальной живописи и великолепное здание, в котором она размещалась. При финансовой помощи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.Т. Морозо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создан Московский художествен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http://artclassic.edu.ru/attach.asp?a_no=7285"/>
          <p:cNvPicPr/>
          <p:nvPr/>
        </p:nvPicPr>
        <p:blipFill>
          <a:blip r:embed="rId3"/>
          <a:stretch/>
        </p:blipFill>
        <p:spPr>
          <a:xfrm>
            <a:off x="4495680" y="1066680"/>
            <a:ext cx="2514600" cy="22561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43" name="Picture 7" descr="http://www.brfond.ru/book/theatre/ill003.jpg"/>
          <p:cNvPicPr/>
          <p:nvPr/>
        </p:nvPicPr>
        <p:blipFill>
          <a:blip r:embed="rId4"/>
          <a:stretch/>
        </p:blipFill>
        <p:spPr>
          <a:xfrm>
            <a:off x="2438280" y="1066680"/>
            <a:ext cx="1481400" cy="2286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7101000" y="205740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.М. Третья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26440" y="210672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.Т. Морозо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04920" y="510552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было примерно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13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мных рабочих, из них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2,8 млн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отомственные рабочие, остальные — рабочие в первом поколении, как правило, выходцы из дерев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data10.gallery.ru/albums/gallery/243842-4ba43-28867599-h200.jpg"/>
          <p:cNvPicPr/>
          <p:nvPr/>
        </p:nvPicPr>
        <p:blipFill>
          <a:blip r:embed="rId3"/>
          <a:stretch/>
        </p:blipFill>
        <p:spPr>
          <a:xfrm>
            <a:off x="1143000" y="1066680"/>
            <a:ext cx="6477120" cy="37972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социальной группой в России являло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местное дворян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омещики  владели  огромной  земельной собственностью, но и здесь происходили перемены. Землевладение  перестало  быть  исключительно дворянск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http://img-fotki.yandex.ru/get/3314/alicja-fox.8/0_26f81_fab7f83b_L.jpg"/>
          <p:cNvPicPr/>
          <p:nvPr/>
        </p:nvPicPr>
        <p:blipFill>
          <a:blip r:embed="rId3"/>
          <a:stretch/>
        </p:blipFill>
        <p:spPr>
          <a:xfrm>
            <a:off x="1066680" y="863640"/>
            <a:ext cx="6858000" cy="3790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04920" y="419112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естьянской среде шло имущественное расслоение. В деревне появились люди, главным источником богатства которых была эксплуатация наемного труда, торговля, ростовщичество. Именно их, а не всех зажиточных хозяев называли кулаками. 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улаки составляли 2—3 % крестьянского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791240" y="218916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19240" y="21891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Русские крестьяне"/>
          <p:cNvPicPr/>
          <p:nvPr/>
        </p:nvPicPr>
        <p:blipFill>
          <a:blip r:embed="rId3"/>
          <a:stretch/>
        </p:blipFill>
        <p:spPr>
          <a:xfrm>
            <a:off x="1447920" y="990720"/>
            <a:ext cx="6324480" cy="309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304920" y="5029200"/>
            <a:ext cx="84582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примыкали примерно 15 % зажиточных крестьян. Главным мерилом зажиточности было наличие определенного количества скота — более четырех лошадей, столько же кор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http://www.ekonomika09.ru/files/018818.jpg"/>
          <p:cNvPicPr/>
          <p:nvPr/>
        </p:nvPicPr>
        <p:blipFill>
          <a:blip r:embed="rId2"/>
          <a:stretch/>
        </p:blipFill>
        <p:spPr>
          <a:xfrm>
            <a:off x="1447920" y="990720"/>
            <a:ext cx="5851440" cy="3806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457200" y="419112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ругом полюсе деревни — безлошадные хозяйства (примерно 25 %). Крайним проявлением бедности было отсутствие коровы — таких хозяйств насчитывалось до 10 %. Крестьянство задыхалось от острого малоземелья. Земли не хватало, многие крестьяне были вынуждены арендовать землю у помещ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821120" y="2050920"/>
            <a:ext cx="4235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11716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49120" y="20509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9" descr="В.Е.Маковский. Крестьянские дети"/>
          <p:cNvPicPr/>
          <p:nvPr/>
        </p:nvPicPr>
        <p:blipFill>
          <a:blip r:embed="rId3"/>
          <a:stretch/>
        </p:blipFill>
        <p:spPr>
          <a:xfrm>
            <a:off x="1600200" y="914400"/>
            <a:ext cx="5791320" cy="309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22860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ю роль в общественной жизни России играла интеллигенция. 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в России 2,7 % населения занималось преимущественно умственным трудом: ученые, преподаватели, врачи, лица свободных профессий (адвокаты, журналисты, писатели, артисты и др.) К 1917 г. их количество удвоилось и составило 1,5 млн челов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оциальная структу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http://statehistory.ru/img_lib/blog/school.jpg"/>
          <p:cNvPicPr/>
          <p:nvPr/>
        </p:nvPicPr>
        <p:blipFill>
          <a:blip r:embed="rId3"/>
          <a:stretch/>
        </p:blipFill>
        <p:spPr>
          <a:xfrm>
            <a:off x="1523880" y="914400"/>
            <a:ext cx="5562720" cy="3300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3"/>
          <p:cNvSpPr txBox="1"/>
          <p:nvPr/>
        </p:nvSpPr>
        <p:spPr>
          <a:xfrm>
            <a:off x="380880" y="990720"/>
            <a:ext cx="8325000" cy="26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экономическое развитие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страны</a:t>
            </a:r>
            <a:endParaRPr b="1" i="1" lang="en-US" sz="3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4572000"/>
            <a:ext cx="8305920" cy="210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Российская империя была одной и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рупнейших стран мир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размерам территории — более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22 млн к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чти 17% обитаемой суши) — она занимала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торое мест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ступа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Британской импер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карта"/>
          <p:cNvPicPr/>
          <p:nvPr/>
        </p:nvPicPr>
        <p:blipFill>
          <a:blip r:embed="rId3"/>
          <a:stretch/>
        </p:blipFill>
        <p:spPr>
          <a:xfrm>
            <a:off x="762120" y="990720"/>
            <a:ext cx="7772400" cy="33969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8088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устриальное общество характеризуется преобладанием промышленного производства над сельским хозяйством. Россия в конц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ставалась сельскохозяйственной страной, но ее промышленность переживала бурный подъ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5" descr="http://www.informexpo.ru/new/images/Krestianstvo.jpg"/>
          <p:cNvPicPr/>
          <p:nvPr/>
        </p:nvPicPr>
        <p:blipFill>
          <a:blip r:embed="rId3"/>
          <a:stretch/>
        </p:blipFill>
        <p:spPr>
          <a:xfrm>
            <a:off x="1523880" y="914400"/>
            <a:ext cx="6019920" cy="3657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чком к росту производства стало железнодорожное строительств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ть железных дорог увеличивалась в 1895—1899 гг. в среднем более чем на 3 тыс. км в год, в следующие пять лет — более чем на 2 тыс. км в год. Огромное значение для развития промышленности и сельского хозяйства имело строительство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Великой Сибирской железнодорожной магистрали (Транссиба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Рисунок10"/>
          <p:cNvPicPr/>
          <p:nvPr/>
        </p:nvPicPr>
        <p:blipFill>
          <a:blip r:embed="rId3"/>
          <a:stretch/>
        </p:blipFill>
        <p:spPr>
          <a:xfrm>
            <a:off x="1600200" y="914400"/>
            <a:ext cx="5943600" cy="3154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214200" y="214200"/>
            <a:ext cx="8643960" cy="376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Багетная рамка 2"/>
          <p:cNvSpPr/>
          <p:nvPr/>
        </p:nvSpPr>
        <p:spPr>
          <a:xfrm>
            <a:off x="228600" y="380880"/>
            <a:ext cx="2357280" cy="1214640"/>
          </a:xfrm>
          <a:prstGeom prst="bevel">
            <a:avLst>
              <a:gd name="adj" fmla="val 12500"/>
            </a:avLst>
          </a:prstGeom>
          <a:solidFill>
            <a:srgbClr val="66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оительство железных доро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Стрелка вправо 3"/>
          <p:cNvSpPr/>
          <p:nvPr/>
        </p:nvSpPr>
        <p:spPr>
          <a:xfrm>
            <a:off x="2666880" y="304920"/>
            <a:ext cx="1676520" cy="13809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Служило толч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Облако 7"/>
          <p:cNvSpPr/>
          <p:nvPr/>
        </p:nvSpPr>
        <p:spPr>
          <a:xfrm>
            <a:off x="5867280" y="2057400"/>
            <a:ext cx="3276720" cy="185724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ю машиностро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Облако 11"/>
          <p:cNvSpPr/>
          <p:nvPr/>
        </p:nvSpPr>
        <p:spPr>
          <a:xfrm>
            <a:off x="4419720" y="152280"/>
            <a:ext cx="3071520" cy="185760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Развитие металлург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Облако 12"/>
          <p:cNvSpPr/>
          <p:nvPr/>
        </p:nvSpPr>
        <p:spPr>
          <a:xfrm>
            <a:off x="2514600" y="2971800"/>
            <a:ext cx="3024360" cy="1500120"/>
          </a:xfrm>
          <a:prstGeom prst="pi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УГЛ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Облако 13"/>
          <p:cNvSpPr/>
          <p:nvPr/>
        </p:nvSpPr>
        <p:spPr>
          <a:xfrm>
            <a:off x="0" y="1676520"/>
            <a:ext cx="3033720" cy="150012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ЛЕСО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Облако 14"/>
          <p:cNvSpPr/>
          <p:nvPr/>
        </p:nvSpPr>
        <p:spPr>
          <a:xfrm>
            <a:off x="152280" y="4343400"/>
            <a:ext cx="2952720" cy="15001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Нефтедобыч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Прямая со стрелкой 16"/>
          <p:cNvCxnSpPr/>
          <p:nvPr/>
        </p:nvCxnSpPr>
        <p:spPr>
          <a:xfrm>
            <a:off x="7009200" y="1676520"/>
            <a:ext cx="143640" cy="3578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H="1">
            <a:off x="5485680" y="3123000"/>
            <a:ext cx="500760" cy="723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5" name="Прямая со стрелкой 19"/>
          <p:cNvCxnSpPr/>
          <p:nvPr/>
        </p:nvCxnSpPr>
        <p:spPr>
          <a:xfrm flipH="1">
            <a:off x="3047400" y="1676520"/>
            <a:ext cx="1786680" cy="4291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6" name="Прямая со стрелкой 22"/>
          <p:cNvCxnSpPr/>
          <p:nvPr/>
        </p:nvCxnSpPr>
        <p:spPr>
          <a:xfrm flipH="1">
            <a:off x="3580920" y="4114800"/>
            <a:ext cx="3144240" cy="7149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7" name="Прямая со стрелкой 24"/>
          <p:cNvCxnSpPr/>
          <p:nvPr/>
        </p:nvCxnSpPr>
        <p:spPr>
          <a:xfrm flipV="1">
            <a:off x="1142640" y="3809880"/>
            <a:ext cx="1072440" cy="64332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8" name="Равно 26"/>
          <p:cNvSpPr/>
          <p:nvPr/>
        </p:nvSpPr>
        <p:spPr>
          <a:xfrm>
            <a:off x="2895480" y="5715000"/>
            <a:ext cx="1571760" cy="642960"/>
          </a:xfrm>
          <a:custGeom>
            <a:avLst/>
            <a:gdLst/>
            <a:ahLst/>
            <a:rect l="l" t="t" r="r" b="b"/>
            <a:pathLst>
              <a:path w="1571625" h="642938">
                <a:moveTo>
                  <a:pt x="208319" y="132445"/>
                </a:moveTo>
                <a:lnTo>
                  <a:pt x="1363306" y="132445"/>
                </a:lnTo>
                <a:lnTo>
                  <a:pt x="1363306" y="283664"/>
                </a:lnTo>
                <a:lnTo>
                  <a:pt x="208319" y="283664"/>
                </a:lnTo>
                <a:lnTo>
                  <a:pt x="208319" y="132445"/>
                </a:lnTo>
                <a:close/>
                <a:moveTo>
                  <a:pt x="208319" y="359274"/>
                </a:moveTo>
                <a:lnTo>
                  <a:pt x="1363306" y="359274"/>
                </a:lnTo>
                <a:lnTo>
                  <a:pt x="1363306" y="510493"/>
                </a:lnTo>
                <a:lnTo>
                  <a:pt x="208319" y="510493"/>
                </a:lnTo>
                <a:lnTo>
                  <a:pt x="208319" y="359274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Box 27"/>
          <p:cNvSpPr/>
          <p:nvPr/>
        </p:nvSpPr>
        <p:spPr>
          <a:xfrm>
            <a:off x="4495680" y="5424480"/>
            <a:ext cx="4419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8,1%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Box 28"/>
          <p:cNvSpPr/>
          <p:nvPr/>
        </p:nvSpPr>
        <p:spPr>
          <a:xfrm>
            <a:off x="4071960" y="4876920"/>
            <a:ext cx="50720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амый высокий промышленный рост в ми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Рисунок 31" descr="3243169_1_23566.jpg"/>
          <p:cNvPicPr/>
          <p:nvPr/>
        </p:nvPicPr>
        <p:blipFill>
          <a:blip r:embed="rId6"/>
          <a:stretch/>
        </p:blipFill>
        <p:spPr>
          <a:xfrm>
            <a:off x="7858080" y="311040"/>
            <a:ext cx="10731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3422520"/>
            <a:ext cx="91440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ьство железных дорог способствовало увеличению производства металла, продукции тяжелого машиностроения, угля, леса и других материалов. Особенно быстрыми темпами развивались отрасли народного хозяйства, связанные с новыми видами топлива — углем и нефтью, добыча которых увеличилась в 3 раза. В целом выпуск продукции тяжелой промышленности увеличился в 2,3 раза. Темпы промышленного роста в России были самыми высокими в мире — до 8,1 % в го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http://www.kievscripo.com/img/borislav-oil-fields-photo11.jpg"/>
          <p:cNvPicPr/>
          <p:nvPr/>
        </p:nvPicPr>
        <p:blipFill>
          <a:blip r:embed="rId3"/>
          <a:stretch/>
        </p:blipFill>
        <p:spPr>
          <a:xfrm>
            <a:off x="380880" y="838080"/>
            <a:ext cx="3714840" cy="24685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95" name="Picture 7" descr="http://actualhistory.ru/app/var/pub/files/285/nobel.jpg"/>
          <p:cNvPicPr/>
          <p:nvPr/>
        </p:nvPicPr>
        <p:blipFill>
          <a:blip r:embed="rId4"/>
          <a:stretch/>
        </p:blipFill>
        <p:spPr>
          <a:xfrm>
            <a:off x="4495680" y="838080"/>
            <a:ext cx="3886200" cy="24163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920" y="990720"/>
            <a:ext cx="8458200" cy="413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книги французского экономиста Э. Тэр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Россия в 1914 г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ые страны имеют то преимущество, что могут немедленно воспользоваться плодами прогресса, добытыми долгими годами опыта в старых промышленных странах. Вот почему шахты и металлургические предприятия, созданные в пустынных степях южной России, были сразу оснащены по образцу наиболее усовершенствованных предприятий Западной Европ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Какими преимуществами обладала российская промышленность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ая экономика на рубеже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IX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-н.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XX 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в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4518000"/>
            <a:ext cx="845820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высокие темпы развития промышленного производства, Россия значительно отставала от мировых держав по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м показателям эконом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оизводству промышленной продукции на душу населения, производительности труда, технической оснащенности предприят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4" descr="Рисунок9"/>
          <p:cNvPicPr/>
          <p:nvPr/>
        </p:nvPicPr>
        <p:blipFill>
          <a:blip r:embed="rId3"/>
          <a:stretch/>
        </p:blipFill>
        <p:spPr>
          <a:xfrm>
            <a:off x="1371600" y="914400"/>
            <a:ext cx="5943600" cy="33591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02" name="Text Box 5"/>
          <p:cNvSpPr/>
          <p:nvPr/>
        </p:nvSpPr>
        <p:spPr>
          <a:xfrm>
            <a:off x="304920" y="4700520"/>
            <a:ext cx="8458200" cy="2113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социально-экономического развития она являлась среднеразвитой аграрно-индустриальной страной, имеющей значительный потенци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была страной с многоукладной экономико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19520" y="228600"/>
            <a:ext cx="3047760" cy="459720"/>
          </a:xfrm>
          <a:prstGeom prst="rect">
            <a:avLst/>
          </a:prstGeom>
          <a:solidFill>
            <a:srgbClr val="ff0066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одерниза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048120" y="1143000"/>
            <a:ext cx="266688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сси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80880" y="2819520"/>
            <a:ext cx="3581640" cy="1015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грает главную р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4952880" y="2743200"/>
            <a:ext cx="3581640" cy="1381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огоукладность, больш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сс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57200" y="4191120"/>
            <a:ext cx="3505320" cy="82548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Массовое строительство 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905120" y="5638680"/>
            <a:ext cx="525780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Бурное развитие тяжел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добывающей промыш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029200" y="4419720"/>
            <a:ext cx="3505320" cy="1015920"/>
          </a:xfrm>
          <a:prstGeom prst="rect">
            <a:avLst/>
          </a:prstGeom>
          <a:solidFill>
            <a:srgbClr val="00ff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изкие качеств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показате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343400" y="762120"/>
            <a:ext cx="0" cy="380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1905120" y="2209680"/>
            <a:ext cx="2590560" cy="457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495680" y="2209680"/>
            <a:ext cx="259092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>
            <a:off x="3962160" y="2209680"/>
            <a:ext cx="533160" cy="2133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4495680" y="2209680"/>
            <a:ext cx="0" cy="3429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95680" y="2209680"/>
            <a:ext cx="533520" cy="2514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России было наличие крупного государственного сектора экономики. Его ядром были казенные (от слова «казна») заводы, которые удовлетворяли военные нужды государства. Они принадлежали государству и им же финансирова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4724280"/>
            <a:ext cx="8458200" cy="192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ым заказчиком и покупателем их продукции являлось государство, а управлялись они государственными чиновниками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крупнейших казенных заводов было около 30: Тульский, Ижевский, Сестрорецкий, Обуховский, Ижорский и д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5" descr="Рисунок8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533520" y="1066680"/>
            <a:ext cx="8076960" cy="35528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20" name="Text Box 6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государству принадлежали свыше 2/3 железнодорожной сети, огромные земельные и лесные угодья, почтовая и телеграфная связь. Правительство влияло на хозяйственную деятельность частных предприят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ль государства в эконом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Горизонтальный свиток 2"/>
          <p:cNvSpPr/>
          <p:nvPr/>
        </p:nvSpPr>
        <p:spPr>
          <a:xfrm>
            <a:off x="304920" y="914400"/>
            <a:ext cx="2928960" cy="7858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ГОСУДАРСТВО ТАКЖЕ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105520" y="12193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гулировало 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5105520" y="1905120"/>
            <a:ext cx="35002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водило таможенные пошли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5181480" y="281952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давало казенные заказы частным компаниям и фирм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5181480" y="3886200"/>
            <a:ext cx="35006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едоставляло кредиты через Госбан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Рисунок 7" descr="Красный выбуржец.jpg"/>
          <p:cNvPicPr/>
          <p:nvPr/>
        </p:nvPicPr>
        <p:blipFill>
          <a:blip r:embed="rId3"/>
          <a:stretch/>
        </p:blipFill>
        <p:spPr>
          <a:xfrm>
            <a:off x="228600" y="2057400"/>
            <a:ext cx="428616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28" name="TextBox 8"/>
          <p:cNvSpPr/>
          <p:nvPr/>
        </p:nvSpPr>
        <p:spPr>
          <a:xfrm>
            <a:off x="714240" y="5786280"/>
            <a:ext cx="350064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ервый русский меднопрокатный завод. /Красный выборжец/.  Санкт-Петербур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создавало благоприятные условия для привлечения иностранного капитала. Важную роль сыграла проведенная в 1897 г. по инициативе министра финансов С.Ю. Витте денежная реформа. Она ввела золотое обеспечение рубля, свободный обмен бумажных денег на золот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915480" y="38862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Ю. Вит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Picture 6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838080" y="990720"/>
            <a:ext cx="2111400" cy="28954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33" name="Рисунок 3" descr="10r1899.jpg"/>
          <p:cNvPicPr/>
          <p:nvPr/>
        </p:nvPicPr>
        <p:blipFill>
          <a:blip r:embed="rId4"/>
          <a:stretch/>
        </p:blipFill>
        <p:spPr>
          <a:xfrm>
            <a:off x="3505320" y="1066680"/>
            <a:ext cx="5257800" cy="2640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4267080" y="36576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«Николаевский» золотой рубль- империа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4920" y="1676520"/>
            <a:ext cx="8839080" cy="2104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Инвестиции</a:t>
            </a:r>
            <a:r>
              <a:rPr b="1" i="1" lang="ru-RU" sz="4400" spc="-1" strike="noStrike" u="sng">
                <a:solidFill>
                  <a:srgbClr val="59a9e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долгосрочные вложения капитала в экономик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026"/>
          <p:cNvSpPr/>
          <p:nvPr/>
        </p:nvSpPr>
        <p:spPr>
          <a:xfrm>
            <a:off x="152280" y="4724280"/>
            <a:ext cx="883944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ерепис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897 г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рритории страны проживало более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128 млн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ловек (третье место после Британской империи и Китая).Российская империя была многонациональной страной. В ней проживало более 100 народов и народност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Территория и население Российской импер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028" descr="нац состав"/>
          <p:cNvPicPr/>
          <p:nvPr/>
        </p:nvPicPr>
        <p:blipFill>
          <a:blip r:embed="rId3"/>
          <a:stretch/>
        </p:blipFill>
        <p:spPr>
          <a:xfrm>
            <a:off x="1371600" y="1066680"/>
            <a:ext cx="6477120" cy="35053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14400"/>
            <a:ext cx="84582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иностранны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ую экономику составляли почти 40 % всех капиталовлож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http://zhurnal.lib.ru/img/m/mzm/mzm1902-1903/vitte.jpg"/>
          <p:cNvPicPr/>
          <p:nvPr/>
        </p:nvPicPr>
        <p:blipFill>
          <a:blip r:embed="rId3"/>
          <a:stretch/>
        </p:blipFill>
        <p:spPr>
          <a:xfrm>
            <a:off x="228600" y="2819520"/>
            <a:ext cx="2444760" cy="3352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39" name="AutoShape 5"/>
          <p:cNvSpPr/>
          <p:nvPr/>
        </p:nvSpPr>
        <p:spPr>
          <a:xfrm>
            <a:off x="2971800" y="2286000"/>
            <a:ext cx="6172200" cy="4419720"/>
          </a:xfrm>
          <a:prstGeom prst="wedgeRoundRectCallout">
            <a:avLst>
              <a:gd name="adj1" fmla="val -62629"/>
              <a:gd name="adj2" fmla="val 5171"/>
              <a:gd name="adj3" fmla="val 16667"/>
            </a:avLst>
          </a:prstGeom>
          <a:solidFill>
            <a:srgbClr val="cc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шей бедности капиталов внутри страны, при необходимости значительную часть 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жений расходовать на государственные потребности, особенно на усиление боевой готовности и на развитие железных дорог, необходимый рост нашей... промышленности может совершаться не иначе, как при непосредственном содействии иностранных капита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04920" y="9144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Доклад был представлен царю в 1900 г. Почему, по мнению Вит­те, в Россию необходимо привлекать иностранный капитал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4800600"/>
            <a:ext cx="84582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привлечение иностранного капитала не привело к созданию иностранных зон влияния, к полной или даже частичной зависимости России от иностранных компаний и государст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компании и банки не вели самостоятельной экономической политики, не имели возможности влиять на политические решения. Приходя в Россию, иностранный капитал сращивался с капиталом отечественным, расширялись возможности для включения России в мировую экономическую сист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5" descr="Рисунок7"/>
          <p:cNvPicPr/>
          <p:nvPr/>
        </p:nvPicPr>
        <p:blipFill>
          <a:blip r:embed="rId4"/>
          <a:stretch/>
        </p:blipFill>
        <p:spPr>
          <a:xfrm>
            <a:off x="304920" y="1066680"/>
            <a:ext cx="8534160" cy="31273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8088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иностранного капитала в экономике России имело и свои минусы: часть прибыли, которая могла бы приумножить национальное богатство страны, расширить капиталовложения, повысить жизненный уровень населения, уходила за границ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28600"/>
            <a:ext cx="7010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Иностранный капита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4" descr="Рисунок6"/>
          <p:cNvPicPr/>
          <p:nvPr/>
        </p:nvPicPr>
        <p:blipFill>
          <a:blip r:embed="rId3"/>
          <a:stretch/>
        </p:blipFill>
        <p:spPr>
          <a:xfrm>
            <a:off x="3124080" y="1066680"/>
            <a:ext cx="5791320" cy="338796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228600" y="17524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дитер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бри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йнеме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Красный Октяб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1828800" y="152280"/>
            <a:ext cx="5334120" cy="106884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Приток иностранных инвестиц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457200" y="1523880"/>
            <a:ext cx="266688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мец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533520" y="3581280"/>
            <a:ext cx="259056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Француз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5562720"/>
            <a:ext cx="228600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Английски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3276720" y="3581280"/>
            <a:ext cx="58672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гольная, металлургия, металлообработка, машиностроение, нефтедобыча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3352680" y="5562720"/>
            <a:ext cx="54104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ефтяная, цветные метал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3505320" y="1523880"/>
            <a:ext cx="53337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Электротехника, химическое производство, металлургия, металлообработка, торгов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1828800" y="152280"/>
            <a:ext cx="533412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ехватка капита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Box 8"/>
          <p:cNvSpPr/>
          <p:nvPr/>
        </p:nvSpPr>
        <p:spPr>
          <a:xfrm>
            <a:off x="1447920" y="2514600"/>
            <a:ext cx="59436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ост иностранных инвестиц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Box 9"/>
          <p:cNvSpPr/>
          <p:nvPr/>
        </p:nvSpPr>
        <p:spPr>
          <a:xfrm>
            <a:off x="304920" y="4343400"/>
            <a:ext cx="4038480" cy="2226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Новые отрасли: химическая, электротехническая, нефтеперерабатывающа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Group 17"/>
          <p:cNvGrpSpPr/>
          <p:nvPr/>
        </p:nvGrpSpPr>
        <p:grpSpPr>
          <a:xfrm>
            <a:off x="1905120" y="1143000"/>
            <a:ext cx="5333760" cy="990720"/>
            <a:chOff x="1905120" y="1143000"/>
            <a:chExt cx="5333760" cy="990720"/>
          </a:xfrm>
        </p:grpSpPr>
        <p:sp>
          <p:nvSpPr>
            <p:cNvPr id="260" name="TextBox 7"/>
            <p:cNvSpPr/>
            <p:nvPr/>
          </p:nvSpPr>
          <p:spPr>
            <a:xfrm>
              <a:off x="1905120" y="1143000"/>
              <a:ext cx="5333760" cy="947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Денежная реформа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Calibri"/>
                </a:rPr>
                <a:t>С.Ю. Витте (1897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Picture 9" descr="http://zhurnal.lib.ru/img/m/mzm/mzm1902-1903/vitte.jpg"/>
            <p:cNvPicPr/>
            <p:nvPr/>
          </p:nvPicPr>
          <p:blipFill>
            <a:blip r:embed="rId1"/>
            <a:stretch/>
          </p:blipFill>
          <p:spPr>
            <a:xfrm>
              <a:off x="1905120" y="1143000"/>
              <a:ext cx="722160" cy="990720"/>
            </a:xfrm>
            <a:prstGeom prst="rect">
              <a:avLst/>
            </a:prstGeom>
            <a:ln w="57240">
              <a:solidFill>
                <a:srgbClr val="0000ff"/>
              </a:solidFill>
              <a:miter/>
            </a:ln>
          </p:spPr>
        </p:pic>
      </p:grpSp>
      <p:pic>
        <p:nvPicPr>
          <p:cNvPr id="262" name="Picture 11" descr="http://www.ab-land.com.ua/jscript/imagemanager/uploads/flag_engl.jpg"/>
          <p:cNvPicPr/>
          <p:nvPr/>
        </p:nvPicPr>
        <p:blipFill>
          <a:blip r:embed="rId2"/>
          <a:stretch/>
        </p:blipFill>
        <p:spPr>
          <a:xfrm>
            <a:off x="3657600" y="3124080"/>
            <a:ext cx="1324080" cy="76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avista.su/picture/flags/germany.gif"/>
          <p:cNvPicPr/>
          <p:nvPr/>
        </p:nvPicPr>
        <p:blipFill>
          <a:blip r:embed="rId3"/>
          <a:stretch/>
        </p:blipFill>
        <p:spPr>
          <a:xfrm>
            <a:off x="1676520" y="3124080"/>
            <a:ext cx="1295280" cy="7588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http://t1.gstatic.com/images?q=tbn:mx9tZnOHxnFCjM::&amp;t=1&amp;usg=__dpKMR9fXkf8N1xeyZGzlnMVHdVE="/>
          <p:cNvPicPr/>
          <p:nvPr/>
        </p:nvPicPr>
        <p:blipFill>
          <a:blip r:embed="rId4"/>
          <a:stretch/>
        </p:blipFill>
        <p:spPr>
          <a:xfrm>
            <a:off x="5638680" y="3124080"/>
            <a:ext cx="12877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4952880" y="4343400"/>
            <a:ext cx="350532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воз части прибыли за границ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0— 1903 гг. европейские страны потряс мощный экономический кризис. Он ударил и по российской экономике. Сильнее других пострадала тяжелая промышленность, особенно такие ее отрасли, как металлургия, металлообработка, машиностроение, добыча и переработка нефт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0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0" y="0"/>
              <a:ext cx="3898800" cy="27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2" name="Picture 7" descr="Сталелетейный завод. Начало XX века."/>
          <p:cNvPicPr/>
          <p:nvPr/>
        </p:nvPicPr>
        <p:blipFill>
          <a:blip r:embed="rId3"/>
          <a:stretch/>
        </p:blipFill>
        <p:spPr>
          <a:xfrm>
            <a:off x="1447920" y="990720"/>
            <a:ext cx="6400800" cy="3238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73" name="Text Box 9"/>
          <p:cNvSpPr/>
          <p:nvPr/>
        </p:nvSpPr>
        <p:spPr>
          <a:xfrm>
            <a:off x="0" y="4343400"/>
            <a:ext cx="883908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зис стал причиной гибели множества предприятий, слабых в финансовом, организационном или техническом отношении. За три года было закрыто свыше 3 тыс. предприятий, на которых было занято 112 тыс. рабочих. Эти предприятия не выдержали конкурентной борьбы. Значительно сократилось ж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знодорожное строительст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380880" y="434340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ом капиталистической экономики на кризис стало усиление концентрации производства и создание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нополий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ним, что, создавая монополии, собственники отдельных предприятий договаривались об объемах производства, ценах, рынках сбыта сырья и других вопроса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457200" y="22860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4" descr="Рисунок4"/>
          <p:cNvPicPr/>
          <p:nvPr/>
        </p:nvPicPr>
        <p:blipFill>
          <a:blip r:embed="rId3"/>
          <a:stretch/>
        </p:blipFill>
        <p:spPr>
          <a:xfrm>
            <a:off x="685800" y="990720"/>
            <a:ext cx="7772400" cy="321156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277" name="Text Box 5"/>
          <p:cNvSpPr/>
          <p:nvPr/>
        </p:nvSpPr>
        <p:spPr>
          <a:xfrm>
            <a:off x="304920" y="990720"/>
            <a:ext cx="8839080" cy="2043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Монополия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крупное хозяйственное объединение, сосредоточившее в своих руках большую часть производства и сбыта какого-либо товара.</a:t>
            </a:r>
            <a:r>
              <a:rPr b="1" i="1" lang="ru-RU" sz="32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04920" y="914400"/>
            <a:ext cx="84582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монополий были различными. Создава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артели, синдикаты, тресты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появились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0"/>
            <a:ext cx="8153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3623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Картель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объединения фирм, компаний, банков, которые договариваются о размерах производства,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рынках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быта, ценах, сохраняя производственную самостоятельнос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04920" y="4114800"/>
            <a:ext cx="883908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Синдикат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форма монополистического объединения, заключенного для совместного сбыта товаров</a:t>
            </a:r>
            <a:r>
              <a:rPr b="1" i="1" lang="ru-RU" sz="2400" spc="-1" strike="noStrike" u="sng">
                <a:solidFill>
                  <a:srgbClr val="166dd7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04920" y="5248440"/>
            <a:ext cx="8839080" cy="1557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Трест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—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рма монополии, при которой входящие в него предприятия полностью теряют свою производ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енную и финансовую самостоятельность и подчиня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ю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ся единому управл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нцерн</a:t>
            </a:r>
            <a:r>
              <a:rPr b="1" i="1" lang="ru-RU" sz="2400" spc="-1" strike="noStrike" u="sng">
                <a:solidFill>
                  <a:srgbClr val="59a9e7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— форма объединения предприятий, формально сохраняющих самостоятельность, но фактически подчиненных централизованному финансовому 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контролю</a:t>
            </a:r>
            <a:r>
              <a:rPr b="1" i="1" lang="ru-RU" sz="2400" spc="-1" strike="noStrike" u="sng">
                <a:solidFill>
                  <a:srgbClr val="2e2e2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руководств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4920" y="4152960"/>
            <a:ext cx="84582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формой монополий в России стали синдикаты. Они повели борьбу за полное подчинение ведущих отраслей хозяйства. Так, синдикат «Продамета» (1901), объединявший в момент своего возникновения 12 металлургических заводов юга России, в 1904 г. контролировал сбыт 60 %, а в 1912 г. — около 80 % металлургической продукции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5"/>
          <p:cNvPicPr/>
          <p:nvPr/>
        </p:nvPicPr>
        <p:blipFill>
          <a:blip r:embed="rId3"/>
          <a:stretch/>
        </p:blipFill>
        <p:spPr>
          <a:xfrm>
            <a:off x="304920" y="990720"/>
            <a:ext cx="8610480" cy="3024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09480" y="228600"/>
            <a:ext cx="81536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Российский монополистический капитализ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57200" y="4648320"/>
            <a:ext cx="8458200" cy="192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полии возникли и в банковской системе. Пять крупнейших банков контролировали почти половину финансовых операций в стране. Постепенно они начинали теснить иностранные капиталы, становясь основными инвесторами отечественной промышленнос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Рисунок3"/>
          <p:cNvPicPr/>
          <p:nvPr/>
        </p:nvPicPr>
        <p:blipFill>
          <a:blip r:embed="rId3"/>
          <a:stretch/>
        </p:blipFill>
        <p:spPr>
          <a:xfrm>
            <a:off x="1295280" y="1066680"/>
            <a:ext cx="6172200" cy="343224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990720"/>
            <a:ext cx="8229600" cy="432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 свода Основных государственных зако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оссийской импе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1. Император всероссийский есть монарх самодержавный и неограниченный. Повиноваться верховной его власти не токмо за страх, но и за совесть сам Бог повелевает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. Никакое место или правительство в государстве не может само собой установить нового закона, и никакой закон не может иметь своего совершения без утверждения Самодержавной вла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5486400"/>
            <a:ext cx="8839080" cy="106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Какой строй был в Российской империи в н. 20 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russian_adv_056.jpg"/>
          <p:cNvPicPr/>
          <p:nvPr/>
        </p:nvPicPr>
        <p:blipFill>
          <a:blip r:embed="rId1"/>
          <a:stretch/>
        </p:blipFill>
        <p:spPr>
          <a:xfrm>
            <a:off x="4648320" y="3276720"/>
            <a:ext cx="4214520" cy="28382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1" name="Рисунок 2" descr="Русская реклама начала века.jpg"/>
          <p:cNvPicPr/>
          <p:nvPr/>
        </p:nvPicPr>
        <p:blipFill>
          <a:blip r:embed="rId2"/>
          <a:stretch/>
        </p:blipFill>
        <p:spPr>
          <a:xfrm>
            <a:off x="4495680" y="0"/>
            <a:ext cx="4214880" cy="3139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292" name="Рисунок 3" descr="russian_adv_045.jpg"/>
          <p:cNvPicPr/>
          <p:nvPr/>
        </p:nvPicPr>
        <p:blipFill>
          <a:blip r:embed="rId3"/>
          <a:stretch/>
        </p:blipFill>
        <p:spPr>
          <a:xfrm>
            <a:off x="152280" y="0"/>
            <a:ext cx="4070520" cy="6858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293" name="TextBox 4"/>
          <p:cNvSpPr/>
          <p:nvPr/>
        </p:nvSpPr>
        <p:spPr>
          <a:xfrm>
            <a:off x="4724280" y="6357960"/>
            <a:ext cx="4071960" cy="3070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еклама начала ХХ ве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2"/>
          <p:cNvSpPr/>
          <p:nvPr/>
        </p:nvSpPr>
        <p:spPr>
          <a:xfrm>
            <a:off x="304920" y="4146480"/>
            <a:ext cx="8458200" cy="265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ачал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Россия занимала первое место в мире по общему объему сельскохозяйственной продукции. На ее долю приходилось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5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сбора ржи, около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0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шеницы и </a:t>
            </a:r>
            <a:r>
              <a:rPr b="1" lang="ru-RU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25 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рового экспорта зерна. Быстрыми темпами увеличивалось производство сахарной свеклы, льна, технических культур. Росли поголовье и продуктивность ско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Рисунок 2" descr="793_5.jpg"/>
          <p:cNvPicPr/>
          <p:nvPr/>
        </p:nvPicPr>
        <p:blipFill>
          <a:blip r:embed="rId3"/>
          <a:stretch/>
        </p:blipFill>
        <p:spPr>
          <a:xfrm>
            <a:off x="1828800" y="750960"/>
            <a:ext cx="5181480" cy="3265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304920" y="4146480"/>
            <a:ext cx="8458200" cy="228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уберниях Центральной России преобладали полусередняцкие и бедняцкие хозяйства. Товарной продукции они не производили. Поля обрабатывались старыми способами — сохой и деревянной бороной. Нехватка скота и денег не позволяла вносить достаточного количества удобрений. Урожайность была низк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4" descr="Рисунок2"/>
          <p:cNvPicPr/>
          <p:nvPr/>
        </p:nvPicPr>
        <p:blipFill>
          <a:blip r:embed="rId3"/>
          <a:stretch/>
        </p:blipFill>
        <p:spPr>
          <a:xfrm>
            <a:off x="457200" y="914400"/>
            <a:ext cx="8229600" cy="312408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304920" y="4648320"/>
            <a:ext cx="8458200" cy="1922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кудение центра дополнялось аграрным перенаселением — историки говорят о 20 мл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лишних ртов», не находивших применения в деревне. Ситуацию осложняло сохранение общины. В нача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 4/5 надельной крестьянской земли находилось в общинном пользован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523880" y="152280"/>
            <a:ext cx="58676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Рисунок 4" descr="skala3_0.jpg"/>
          <p:cNvPicPr/>
          <p:nvPr/>
        </p:nvPicPr>
        <p:blipFill>
          <a:blip r:embed="rId3"/>
          <a:stretch/>
        </p:blipFill>
        <p:spPr>
          <a:xfrm>
            <a:off x="1523880" y="914400"/>
            <a:ext cx="5943600" cy="36496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380880"/>
            <a:ext cx="8458200" cy="54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так, Россия в начале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XX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в. по уровню экономического развития была среднеразвитой аграрно-индустриальной страной с многоукладной экономикой. Первоочередной являлась задача модернизации сельского хозяйства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гос власть"/>
          <p:cNvPicPr/>
          <p:nvPr/>
        </p:nvPicPr>
        <p:blipFill>
          <a:blip r:embed="rId1"/>
          <a:stretch/>
        </p:blipFill>
        <p:spPr>
          <a:xfrm>
            <a:off x="609480" y="990720"/>
            <a:ext cx="8229600" cy="39160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113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Политический стр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ая империя оставалась самодержавной монархией. В руках императора сосредоточивалась вся полнота государственной власти — законодательной, исполнительной, отчасти судеб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04920" y="4883040"/>
            <a:ext cx="88390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щательным органом при императоре являлся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Государственный сов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н имел право «подавать императору мнения по вопросам законодательства». Но император вовсе не был обязан прислушиваться к этим мнения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арх руководил страной через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Комитет министр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вшийся высшим исполнительным органом империи. Министры были ответственны только перед императором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04920" y="5105520"/>
            <a:ext cx="8839080" cy="1557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ор был главой не только государства, но и Русской православной церкви, официально признанной «первенствующей и господствующей» в стране. Управление православной церковью царь осуществлял через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ин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04920" y="5000760"/>
            <a:ext cx="8839080" cy="1800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высшим государственным учреждениям относился и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Сенат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ил за законностью действий высших чиновников и обладал правом обнародовать зако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57200" y="1523880"/>
            <a:ext cx="2895480" cy="39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ом Российской империи был двуглавый орел с царскими регалиями — коронами, скипетром и держав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7000" y="1544760"/>
            <a:ext cx="6648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Герб Российской Федерации - История герба России."/>
          <p:cNvPicPr/>
          <p:nvPr/>
        </p:nvPicPr>
        <p:blipFill>
          <a:blip r:embed="rId4"/>
          <a:stretch/>
        </p:blipFill>
        <p:spPr>
          <a:xfrm>
            <a:off x="4038480" y="1143000"/>
            <a:ext cx="4397400" cy="54864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27000" y="1544760"/>
            <a:ext cx="3341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09480" y="5105520"/>
            <a:ext cx="8001000" cy="1557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представлял собой полотнище с белой, синей и красной горизонтальными полосами. Государственный гимн начинался словами: «Боже, Царя храни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057400" y="152280"/>
            <a:ext cx="50292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Государственные симво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rId3"/>
          </p:cNvPr>
          <p:cNvSpPr/>
          <p:nvPr/>
        </p:nvSpPr>
        <p:spPr>
          <a:xfrm>
            <a:off x="50760" y="1714680"/>
            <a:ext cx="90774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http://www.realto.ru/_images/handnews/48.jpeg"/>
          <p:cNvPicPr/>
          <p:nvPr/>
        </p:nvPicPr>
        <p:blipFill>
          <a:blip r:embed="rId4"/>
          <a:stretch/>
        </p:blipFill>
        <p:spPr>
          <a:xfrm>
            <a:off x="1219320" y="914400"/>
            <a:ext cx="6858000" cy="3911760"/>
          </a:xfrm>
          <a:prstGeom prst="rect">
            <a:avLst/>
          </a:prstGeom>
          <a:ln w="0">
            <a:noFill/>
          </a:ln>
        </p:spPr>
      </p:pic>
      <p:pic>
        <p:nvPicPr>
          <p:cNvPr id="128" name="gimn_-_bozhe_carya_hrani.mp3" descr=""/>
          <p:cNvPicPr/>
          <p:nvPr/>
        </p:nvPicPr>
        <p:blipFill>
          <a:blip r:embed="rId5"/>
          <a:stretch/>
        </p:blipFill>
        <p:spPr>
          <a:xfrm>
            <a:off x="8358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287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85800" y="990720"/>
            <a:ext cx="8001000" cy="155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одернизац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оцесс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ереход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радицион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общест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еству индустриальном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3352680"/>
            <a:ext cx="8001000" cy="253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Индустриальное обществ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общество, в котором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завершен процесс созд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пной, технически развито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промышленности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щей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над сельским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212121"/>
                </a:solidFill>
                <a:latin typeface="Times New Roman"/>
                <a:ea typeface="Times New Roman"/>
              </a:rPr>
              <a:t>хозяйств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5800" y="990720"/>
            <a:ext cx="8001000" cy="5069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дернизация охватила все ведущие страны, но у российской модернизации были свои особенности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относительно поздно (когда?) вступила на путь капиталистического развит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ужно было догонять развитые госуд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хранялись феодальные пережит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дерниза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ила по инициативе и под контролем государств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рнизация охватила в основном те отрасли экономики, от которых зависело военное и политическое могущество стран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066680" y="152280"/>
            <a:ext cx="678204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собенности российской модернизац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3:51:28Z</dcterms:created>
  <dc:creator>***</dc:creator>
  <dc:description/>
  <dc:language>en-US</dc:language>
  <cp:lastModifiedBy>Эсманская Алла Георгиевна</cp:lastModifiedBy>
  <dcterms:modified xsi:type="dcterms:W3CDTF">2014-06-16T09:28:42Z</dcterms:modified>
  <cp:revision>10</cp:revision>
  <dc:subject/>
  <dc:title>Презентация PowerPoint</dc:title>
</cp:coreProperties>
</file>